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48F-4B0A-4C96-9A95-72CE22CA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951-AB1A-4F73-83F9-FE3074A1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1AA-5065-4F60-890F-C11CD0BE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E29-3C16-43F5-BCF1-70167DEB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DCA-452D-4500-AC96-B15D797F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773-D869-42A5-9275-5C83B824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FF6-0521-4528-BECE-18F31EAB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982-987C-4785-8CBA-265BDCBF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8B2-69C1-45D7-9C98-6454DEA5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045-F8BC-42E2-A261-7414294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EAB-1D85-477B-B992-E2669630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3DF-CC60-4EBB-B8E5-8D4D4283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4120" indent="-252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656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0972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0972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0972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Autofit/>
          </a:bodyPr>
          <a:lstStyle>
            <a:lvl1pPr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Autofit/>
          </a:bodyPr>
          <a:lstStyle>
            <a:lvl1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Autofit/>
          </a:bodyPr>
          <a:lstStyle>
            <a:lvl1pPr indent="0" algn="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fld id="{30537E1C-7F08-48FB-A2B0-E64CD839B4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5360" y="609120"/>
            <a:ext cx="8915040" cy="1261080"/>
            <a:chOff x="495360" y="609120"/>
            <a:chExt cx="8915040" cy="1261080"/>
          </a:xfrm>
        </p:grpSpPr>
        <p:sp>
          <p:nvSpPr>
            <p:cNvPr id="42" name=""/>
            <p:cNvSpPr/>
            <p:nvPr/>
          </p:nvSpPr>
          <p:spPr>
            <a:xfrm>
              <a:off x="609480" y="838800"/>
              <a:ext cx="685800" cy="3430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9360" y="152712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360" y="118188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3600" y="141084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16200000">
              <a:off x="571680" y="1182960"/>
              <a:ext cx="122004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04920" y="2743200"/>
            <a:ext cx="929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1768320"/>
            <a:ext cx="670572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S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ità/prodotto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mazione dell’uomo e del cittad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ta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raccorda c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99061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905120"/>
            <a:ext cx="2971800" cy="533160"/>
          </a:xfrm>
          <a:prstGeom prst="rect">
            <a:avLst/>
          </a:prstGeom>
          <a:noFill/>
          <a:ln w="2844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4648320"/>
            <a:ext cx="3200400" cy="533160"/>
          </a:xfrm>
          <a:prstGeom prst="rect">
            <a:avLst/>
          </a:prstGeom>
          <a:noFill/>
          <a:ln w="2844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25800" y="2590920"/>
            <a:ext cx="577800" cy="690480"/>
          </a:xfrm>
          <a:prstGeom prst="downArrow">
            <a:avLst>
              <a:gd name="adj1" fmla="val 50000"/>
              <a:gd name="adj2" fmla="val 29875"/>
            </a:avLst>
          </a:prstGeom>
          <a:solidFill>
            <a:srgbClr val="dc042d"/>
          </a:solidFill>
          <a:ln w="936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886200"/>
            <a:ext cx="577800" cy="690480"/>
          </a:xfrm>
          <a:prstGeom prst="downArrow">
            <a:avLst>
              <a:gd name="adj1" fmla="val 50000"/>
              <a:gd name="adj2" fmla="val 29875"/>
            </a:avLst>
          </a:prstGeom>
          <a:solidFill>
            <a:srgbClr val="dc042d"/>
          </a:solidFill>
          <a:ln w="936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IL SISTEMA REGIONALE</a:t>
            </a:r>
            <a:br>
              <a:rPr sz="3900"/>
            </a:br>
            <a:r>
              <a:rPr b="1" lang="en-US" sz="24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della formazione e dell’istr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135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1676520"/>
            <a:ext cx="7491600" cy="4568760"/>
            <a:chOff x="1066680" y="1676520"/>
            <a:chExt cx="7491600" cy="4568760"/>
          </a:xfrm>
        </p:grpSpPr>
        <p:sp>
          <p:nvSpPr>
            <p:cNvPr id="141" name=""/>
            <p:cNvSpPr/>
            <p:nvPr/>
          </p:nvSpPr>
          <p:spPr>
            <a:xfrm>
              <a:off x="1103400" y="1676520"/>
              <a:ext cx="13017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ENTI LOCA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6680" y="2535120"/>
              <a:ext cx="1447920" cy="712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G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6680" y="3997440"/>
              <a:ext cx="1447920" cy="711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VI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6680" y="5495760"/>
              <a:ext cx="1447920" cy="711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U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10360" y="1714680"/>
              <a:ext cx="1303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STA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10360" y="2498760"/>
              <a:ext cx="1447920" cy="711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.P.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10360" y="4014720"/>
              <a:ext cx="1447920" cy="712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REZIONE REGION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10360" y="5533920"/>
              <a:ext cx="1447920" cy="711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STITU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08080" y="4933800"/>
              <a:ext cx="470160" cy="33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78240" y="2760840"/>
              <a:ext cx="162864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514600" y="4858920"/>
              <a:ext cx="162864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4334040"/>
              <a:ext cx="455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4800" y="3435480"/>
              <a:ext cx="469800" cy="33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852720" y="3322800"/>
              <a:ext cx="1846440" cy="1834920"/>
              <a:chOff x="3852720" y="3322800"/>
              <a:chExt cx="1846440" cy="1834920"/>
            </a:xfrm>
          </p:grpSpPr>
          <p:sp>
            <p:nvSpPr>
              <p:cNvPr id="155" name=""/>
              <p:cNvSpPr/>
              <p:nvPr/>
            </p:nvSpPr>
            <p:spPr>
              <a:xfrm>
                <a:off x="3852720" y="3322800"/>
                <a:ext cx="1846440" cy="18349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61080" y="3772080"/>
                <a:ext cx="1629360" cy="861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RGANO COLLEGIALE REGION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754280" y="3247920"/>
              <a:ext cx="5061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790640" y="3772080"/>
              <a:ext cx="4348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4280" y="4708440"/>
              <a:ext cx="5061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790640" y="5270400"/>
              <a:ext cx="3985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761240" y="3360600"/>
              <a:ext cx="152280" cy="524160"/>
              <a:chOff x="7761240" y="3360600"/>
              <a:chExt cx="152280" cy="524160"/>
            </a:xfrm>
          </p:grpSpPr>
          <p:sp>
            <p:nvSpPr>
              <p:cNvPr id="162" name=""/>
              <p:cNvSpPr/>
              <p:nvPr/>
            </p:nvSpPr>
            <p:spPr>
              <a:xfrm>
                <a:off x="7761240" y="3360600"/>
                <a:ext cx="0" cy="52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913520" y="3360600"/>
                <a:ext cx="0" cy="52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761240" y="4858920"/>
              <a:ext cx="152280" cy="524160"/>
              <a:chOff x="7761240" y="4858920"/>
              <a:chExt cx="152280" cy="524160"/>
            </a:xfrm>
          </p:grpSpPr>
          <p:sp>
            <p:nvSpPr>
              <p:cNvPr id="165" name=""/>
              <p:cNvSpPr/>
              <p:nvPr/>
            </p:nvSpPr>
            <p:spPr>
              <a:xfrm>
                <a:off x="7761240" y="4859280"/>
                <a:ext cx="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913520" y="4858920"/>
                <a:ext cx="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001000" y="62514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IL SISTEMA LOCALE</a:t>
            </a:r>
            <a:br>
              <a:rPr sz="3900"/>
            </a:br>
            <a:r>
              <a:rPr b="1" lang="en-US" sz="24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della formazione e dell’istr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92200" y="2133720"/>
            <a:ext cx="8721720" cy="4016160"/>
            <a:chOff x="592200" y="2133720"/>
            <a:chExt cx="8721720" cy="4016160"/>
          </a:xfrm>
        </p:grpSpPr>
        <p:sp>
          <p:nvSpPr>
            <p:cNvPr id="170" name=""/>
            <p:cNvSpPr/>
            <p:nvPr/>
          </p:nvSpPr>
          <p:spPr>
            <a:xfrm>
              <a:off x="2148120" y="2169720"/>
              <a:ext cx="2352240" cy="108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COMUN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75760" y="4919760"/>
              <a:ext cx="2352240" cy="112140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PROVINCI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1400" y="2169720"/>
              <a:ext cx="2352240" cy="1049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ISTITUT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0240" y="3255120"/>
              <a:ext cx="0" cy="170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00720" y="3255120"/>
              <a:ext cx="1121760" cy="173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392000" y="3218760"/>
              <a:ext cx="1049400" cy="166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6720" y="3689280"/>
              <a:ext cx="904680" cy="8683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71880" y="3219120"/>
              <a:ext cx="0" cy="17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41400" y="4919760"/>
              <a:ext cx="2352240" cy="1121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CS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2200" y="2133720"/>
              <a:ext cx="723600" cy="3907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REGION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90320" y="2169720"/>
              <a:ext cx="723600" cy="3871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00720" y="2676240"/>
              <a:ext cx="94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8000" y="5462640"/>
              <a:ext cx="97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315800" y="3182760"/>
              <a:ext cx="83232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15800" y="4051440"/>
              <a:ext cx="72360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94000" y="3219120"/>
              <a:ext cx="75960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757640" y="3979080"/>
              <a:ext cx="79596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2200" y="2133720"/>
              <a:ext cx="723600" cy="4016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189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196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676160" y="1981080"/>
            <a:ext cx="7010640" cy="3200400"/>
            <a:chOff x="1676160" y="1981080"/>
            <a:chExt cx="7010640" cy="3200400"/>
          </a:xfrm>
        </p:grpSpPr>
        <p:sp>
          <p:nvSpPr>
            <p:cNvPr id="203" name=""/>
            <p:cNvSpPr/>
            <p:nvPr/>
          </p:nvSpPr>
          <p:spPr>
            <a:xfrm>
              <a:off x="2895480" y="3200400"/>
              <a:ext cx="4572000" cy="7783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UTAZIO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87840" y="411480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7665840" y="307800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5400000">
              <a:off x="1721520" y="307800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72000" y="1981080"/>
              <a:ext cx="974880" cy="1067040"/>
            </a:xfrm>
            <a:prstGeom prst="upArrow">
              <a:avLst>
                <a:gd name="adj1" fmla="val 38630"/>
                <a:gd name="adj2" fmla="val 42834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95360" y="4800600"/>
            <a:ext cx="8915040" cy="1218960"/>
            <a:chOff x="495360" y="4800600"/>
            <a:chExt cx="8915040" cy="1218960"/>
          </a:xfrm>
        </p:grpSpPr>
        <p:sp>
          <p:nvSpPr>
            <p:cNvPr id="209" name=""/>
            <p:cNvSpPr/>
            <p:nvPr/>
          </p:nvSpPr>
          <p:spPr>
            <a:xfrm>
              <a:off x="609480" y="502236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9360" y="568800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360" y="53542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3600" y="557568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16200000">
              <a:off x="591480" y="535464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371600" y="5867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“IL tempo prolungato”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1984  -  Juven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314360" y="533520"/>
          <a:ext cx="7753320" cy="46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4360" y="533520"/>
                    <a:ext cx="77533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219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712520" y="2060640"/>
            <a:ext cx="7010640" cy="3200400"/>
            <a:chOff x="1712520" y="2060640"/>
            <a:chExt cx="7010640" cy="3200400"/>
          </a:xfrm>
        </p:grpSpPr>
        <p:sp>
          <p:nvSpPr>
            <p:cNvPr id="226" name=""/>
            <p:cNvSpPr/>
            <p:nvPr/>
          </p:nvSpPr>
          <p:spPr>
            <a:xfrm>
              <a:off x="2931840" y="3279960"/>
              <a:ext cx="4572000" cy="7783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gani collegial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24200" y="419436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7702200" y="315756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5400000">
              <a:off x="1757880" y="315756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608360" y="2060640"/>
              <a:ext cx="974880" cy="1067040"/>
            </a:xfrm>
            <a:prstGeom prst="upArrow">
              <a:avLst>
                <a:gd name="adj1" fmla="val 38630"/>
                <a:gd name="adj2" fmla="val 42834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dc042d"/>
                </a:solidFill>
                <a:latin typeface="Times New Roman"/>
              </a:rPr>
              <a:t>AFFLUENZA ALLE URNE (1975 – 2002)</a:t>
            </a:r>
            <a:br>
              <a:rPr sz="2400"/>
            </a:br>
            <a:r>
              <a:rPr b="0" lang="en-US" sz="2400" spc="-1" strike="noStrike">
                <a:solidFill>
                  <a:srgbClr val="dc042d"/>
                </a:solidFill>
                <a:latin typeface="Times New Roman"/>
              </a:rPr>
              <a:t>per l’elezione dei consigli di circolo e di isti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95360" y="457200"/>
            <a:ext cx="8915040" cy="1218960"/>
            <a:chOff x="495360" y="457200"/>
            <a:chExt cx="8915040" cy="1218960"/>
          </a:xfrm>
        </p:grpSpPr>
        <p:sp>
          <p:nvSpPr>
            <p:cNvPr id="233" name=""/>
            <p:cNvSpPr/>
            <p:nvPr/>
          </p:nvSpPr>
          <p:spPr>
            <a:xfrm>
              <a:off x="609480" y="67896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9360" y="134460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5360" y="10108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600" y="123228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 rot="16200000">
              <a:off x="591480" y="101124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915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915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95360" y="685800"/>
            <a:ext cx="8915040" cy="1218960"/>
            <a:chOff x="495360" y="685800"/>
            <a:chExt cx="8915040" cy="1218960"/>
          </a:xfrm>
        </p:grpSpPr>
        <p:sp>
          <p:nvSpPr>
            <p:cNvPr id="241" name=""/>
            <p:cNvSpPr/>
            <p:nvPr/>
          </p:nvSpPr>
          <p:spPr>
            <a:xfrm>
              <a:off x="609480" y="90756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9360" y="157320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360" y="12394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600" y="146088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 rot="16200000">
              <a:off x="591480" y="123984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43040" y="2286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dc042d"/>
                </a:solidFill>
                <a:latin typeface="Times New Roman"/>
              </a:rPr>
              <a:t>AFFLUENZA ALLE URNE (1975 – 2002)</a:t>
            </a:r>
            <a:br>
              <a:rPr sz="2400"/>
            </a:br>
            <a:r>
              <a:rPr b="0" lang="en-US" sz="2400" spc="-1" strike="noStrike">
                <a:solidFill>
                  <a:srgbClr val="dc042d"/>
                </a:solidFill>
                <a:latin typeface="Times New Roman"/>
              </a:rPr>
              <a:t>per l’elezione dei consigli di circolo e di isti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120" y="1731960"/>
          <a:ext cx="845820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31960"/>
                    <a:ext cx="845820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2680" y="304920"/>
            <a:ext cx="8420040" cy="6444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600" spc="-1" strike="noStrike">
                <a:solidFill>
                  <a:srgbClr val="dc042d"/>
                </a:solidFill>
                <a:latin typeface="Times New Roman"/>
              </a:rPr>
              <a:t>ORGANI COLLEGIALI</a:t>
            </a:r>
            <a:br>
              <a:rPr sz="3600"/>
            </a:br>
            <a:r>
              <a:rPr b="1" lang="en-US" sz="2400" spc="-1" strike="noStrike">
                <a:solidFill>
                  <a:srgbClr val="dc042d"/>
                </a:solidFill>
                <a:latin typeface="Times New Roman"/>
              </a:rPr>
              <a:t>(proposta di legge - Luglio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295280"/>
            <a:ext cx="287784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GLIO SUPERIORE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BBLICA ISTR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271600"/>
            <a:ext cx="7188120" cy="42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58960" y="2320920"/>
            <a:ext cx="6535440" cy="658800"/>
            <a:chOff x="858960" y="2320920"/>
            <a:chExt cx="6535440" cy="658800"/>
          </a:xfrm>
        </p:grpSpPr>
        <p:sp>
          <p:nvSpPr>
            <p:cNvPr id="254" name=""/>
            <p:cNvSpPr/>
            <p:nvPr/>
          </p:nvSpPr>
          <p:spPr>
            <a:xfrm>
              <a:off x="858960" y="2320920"/>
              <a:ext cx="13572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S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14480" y="2320920"/>
              <a:ext cx="170928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itato di Valutazione del servi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85120" y="2320920"/>
              <a:ext cx="170928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siglio di garanz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35440" y="2320920"/>
              <a:ext cx="170928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ucleo di valut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7280" y="3271680"/>
            <a:ext cx="19112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. 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284640"/>
            <a:ext cx="2287440" cy="601560"/>
          </a:xfrm>
          <a:prstGeom prst="rect">
            <a:avLst/>
          </a:prstGeom>
          <a:solidFill>
            <a:srgbClr val="dc0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ONSIGL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di Amminist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17760" y="3271680"/>
            <a:ext cx="1911240" cy="636840"/>
          </a:xfrm>
          <a:prstGeom prst="rect">
            <a:avLst/>
          </a:prstGeom>
          <a:solidFill>
            <a:srgbClr val="dc042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OLLEGIO DEI DOC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8040" y="4029120"/>
            <a:ext cx="1820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. Sinda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63800" y="4175280"/>
            <a:ext cx="19112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icolazio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 colleg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35600" y="4175280"/>
            <a:ext cx="17096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mblea di istituto degli stud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36960" y="4175280"/>
            <a:ext cx="20494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a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e dei geni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0560" y="5348160"/>
            <a:ext cx="1911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Organo rappresen. delle artico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5257800"/>
            <a:ext cx="17100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a di istituto degli stud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5480" y="4981680"/>
            <a:ext cx="2049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a di istituto dei geni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5800" y="5934240"/>
            <a:ext cx="17096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itato degli stud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84720" y="5934240"/>
            <a:ext cx="2049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itato dei geni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29200" y="2859120"/>
            <a:ext cx="2009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glio di discip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1370160"/>
            <a:ext cx="10083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siglio scolastico reg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1539720"/>
            <a:ext cx="1192320" cy="6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siglio scola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600200"/>
            <a:ext cx="2133720" cy="511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llegiale degli enti lo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3492360"/>
            <a:ext cx="1143000" cy="6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sulta degli stud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05920" y="4541760"/>
            <a:ext cx="11430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siglio di garanzia provin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219320" y="259056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262160" y="3590640"/>
            <a:ext cx="1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63560" y="2664000"/>
            <a:ext cx="1257480" cy="536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2819520"/>
            <a:ext cx="1440" cy="390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173400" y="320040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20560" y="285912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730400" y="3102120"/>
            <a:ext cx="1004760" cy="9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589800" y="262584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971800" y="3957120"/>
            <a:ext cx="144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33480" y="395280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573960" y="3900600"/>
            <a:ext cx="1365120" cy="36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9800" y="3951360"/>
            <a:ext cx="144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523880" y="3687480"/>
            <a:ext cx="7938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765440" y="4757400"/>
            <a:ext cx="8524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328640" y="5591160"/>
            <a:ext cx="1800" cy="390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81560" y="4713120"/>
            <a:ext cx="144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551640" y="5029200"/>
            <a:ext cx="144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389280" y="576108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8745120" y="420012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51400" y="3565440"/>
            <a:ext cx="6080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95360" y="380880"/>
            <a:ext cx="8915040" cy="1218960"/>
            <a:chOff x="495360" y="380880"/>
            <a:chExt cx="8915040" cy="1218960"/>
          </a:xfrm>
        </p:grpSpPr>
        <p:sp>
          <p:nvSpPr>
            <p:cNvPr id="297" name=""/>
            <p:cNvSpPr/>
            <p:nvPr/>
          </p:nvSpPr>
          <p:spPr>
            <a:xfrm>
              <a:off x="609480" y="60264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9360" y="12682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5360" y="93456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600" y="115596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16200000">
              <a:off x="591480" y="93492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304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920880" y="342900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0520" y="3357720"/>
            <a:ext cx="1368360" cy="1008000"/>
          </a:xfrm>
          <a:prstGeom prst="rightArrow">
            <a:avLst>
              <a:gd name="adj1" fmla="val 50000"/>
              <a:gd name="adj2" fmla="val 339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7760880" y="3284640"/>
            <a:ext cx="1368360" cy="1008000"/>
          </a:xfrm>
          <a:prstGeom prst="rightArrow">
            <a:avLst>
              <a:gd name="adj1" fmla="val 53704"/>
              <a:gd name="adj2" fmla="val 319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3836160" y="5265000"/>
            <a:ext cx="1368720" cy="1008000"/>
          </a:xfrm>
          <a:prstGeom prst="rightArrow">
            <a:avLst>
              <a:gd name="adj1" fmla="val 50000"/>
              <a:gd name="adj2" fmla="val 339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3943440" y="1773720"/>
            <a:ext cx="1368720" cy="1008360"/>
          </a:xfrm>
          <a:prstGeom prst="rightArrow">
            <a:avLst>
              <a:gd name="adj1" fmla="val 50000"/>
              <a:gd name="adj2" fmla="val 339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44880" y="3141720"/>
            <a:ext cx="5256000" cy="1873080"/>
          </a:xfrm>
          <a:prstGeom prst="rect">
            <a:avLst/>
          </a:prstGeom>
          <a:gradFill rotWithShape="0">
            <a:gsLst>
              <a:gs pos="0">
                <a:srgbClr val="917b53"/>
              </a:gs>
              <a:gs pos="50000">
                <a:srgbClr val="ffff00"/>
              </a:gs>
              <a:gs pos="100000">
                <a:srgbClr val="917b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44880" y="3141720"/>
            <a:ext cx="5184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scuola e professionalità doc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560520" y="692280"/>
            <a:ext cx="8915040" cy="1260000"/>
            <a:chOff x="560520" y="692280"/>
            <a:chExt cx="8915040" cy="1260000"/>
          </a:xfrm>
        </p:grpSpPr>
        <p:sp>
          <p:nvSpPr>
            <p:cNvPr id="318" name=""/>
            <p:cNvSpPr/>
            <p:nvPr/>
          </p:nvSpPr>
          <p:spPr>
            <a:xfrm>
              <a:off x="674640" y="92160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4520" y="160956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0520" y="12646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8760" y="149328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 rot="16200000">
              <a:off x="636840" y="126612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920880" y="342900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6520" y="2133720"/>
            <a:ext cx="777744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ONE della SCUOL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ORGANIZZ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60880" y="2997360"/>
            <a:ext cx="574560" cy="1728720"/>
          </a:xfrm>
          <a:prstGeom prst="upDownArrow">
            <a:avLst>
              <a:gd name="adj1" fmla="val 50000"/>
              <a:gd name="adj2" fmla="val 5989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56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380880"/>
            <a:ext cx="79246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INTEGR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verticale e orizzo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590920"/>
            <a:ext cx="67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i ’70: integrazione partecip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429000"/>
            <a:ext cx="78487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g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4876920"/>
            <a:ext cx="82296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zione nor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35560" y="4038480"/>
            <a:ext cx="1035000" cy="603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c042d"/>
          </a:solidFill>
          <a:ln w="936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631800" y="333360"/>
            <a:ext cx="8915040" cy="1260000"/>
            <a:chOff x="631800" y="333360"/>
            <a:chExt cx="8915040" cy="1260000"/>
          </a:xfrm>
        </p:grpSpPr>
        <p:sp>
          <p:nvSpPr>
            <p:cNvPr id="328" name=""/>
            <p:cNvSpPr/>
            <p:nvPr/>
          </p:nvSpPr>
          <p:spPr>
            <a:xfrm>
              <a:off x="745920" y="56268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5800" y="125064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1800" y="90576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0040" y="113436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708120" y="90720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920880" y="342900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24160" y="1268280"/>
            <a:ext cx="7777080" cy="78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e cultura professional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e sistema organizzativo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e formaz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3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68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895480" y="2833560"/>
            <a:ext cx="46483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AUTONOM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886200"/>
            <a:ext cx="4343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21 Legge Bassanini 59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95360" y="609120"/>
            <a:ext cx="8915040" cy="1261080"/>
            <a:chOff x="495360" y="609120"/>
            <a:chExt cx="8915040" cy="1261080"/>
          </a:xfrm>
        </p:grpSpPr>
        <p:sp>
          <p:nvSpPr>
            <p:cNvPr id="77" name=""/>
            <p:cNvSpPr/>
            <p:nvPr/>
          </p:nvSpPr>
          <p:spPr>
            <a:xfrm>
              <a:off x="609480" y="838800"/>
              <a:ext cx="685800" cy="3430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9360" y="152712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5360" y="118188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3600" y="141084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16200000">
              <a:off x="571680" y="1182960"/>
              <a:ext cx="122004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71680" y="4159080"/>
            <a:ext cx="87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icolo 114 riform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pubblica è costituita dai Comuni, dalle Province, dalle Città metropolitane, dalle Regioni e dallo Stat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609480"/>
            <a:ext cx="88707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042d"/>
                </a:solidFill>
                <a:latin typeface="Times New Roman"/>
              </a:rPr>
              <a:t>Costituzione Titolo 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009880"/>
            <a:ext cx="7391160" cy="30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icolo 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pubblica si riparte in Regioni, Province e Comuni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4419720"/>
            <a:ext cx="583920" cy="380880"/>
          </a:xfrm>
          <a:prstGeom prst="rightArrow">
            <a:avLst>
              <a:gd name="adj1" fmla="val 50000"/>
              <a:gd name="adj2" fmla="val 5545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934320" y="4419720"/>
            <a:ext cx="583920" cy="380880"/>
          </a:xfrm>
          <a:prstGeom prst="rightArrow">
            <a:avLst>
              <a:gd name="adj1" fmla="val 50000"/>
              <a:gd name="adj2" fmla="val 5545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La riforma del Titolo V della</a:t>
            </a:r>
            <a:br>
              <a:rPr sz="3900"/>
            </a:br>
            <a:r>
              <a:rPr b="0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Costituzio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2819160"/>
            <a:ext cx="8420040" cy="327636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gislazione es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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zione dei livelli essenziali delle prestazioni concernenti i diritti civili e sociali che devono essere garantiti su tutto il territorio nazi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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e generali sull’istr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360" y="1143000"/>
            <a:ext cx="8915040" cy="1260000"/>
            <a:chOff x="495360" y="1143000"/>
            <a:chExt cx="8915040" cy="1260000"/>
          </a:xfrm>
        </p:grpSpPr>
        <p:sp>
          <p:nvSpPr>
            <p:cNvPr id="91" name=""/>
            <p:cNvSpPr/>
            <p:nvPr/>
          </p:nvSpPr>
          <p:spPr>
            <a:xfrm>
              <a:off x="609480" y="13723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9360" y="20602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360" y="17154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600" y="19440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200000">
              <a:off x="571680" y="17168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La riforma del Titolo V della</a:t>
            </a:r>
            <a:br>
              <a:rPr sz="3900"/>
            </a:br>
            <a:r>
              <a:rPr b="0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Costituzio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 fontScale="99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gislazione es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uzione artigiana e professio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enza scola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gislazione concorrente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zione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va l’autonomia delle istituzion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scolastic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con esclusione della istruzion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zione profess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potestà legislativa salvo la determinazione dei principi   fondamentali, riservata alla legisl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o st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95360" y="990720"/>
            <a:ext cx="8915040" cy="1260000"/>
            <a:chOff x="495360" y="990720"/>
            <a:chExt cx="8915040" cy="1260000"/>
          </a:xfrm>
        </p:grpSpPr>
        <p:sp>
          <p:nvSpPr>
            <p:cNvPr id="100" name=""/>
            <p:cNvSpPr/>
            <p:nvPr/>
          </p:nvSpPr>
          <p:spPr>
            <a:xfrm>
              <a:off x="609480" y="122004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360" y="19080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360" y="156312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600" y="179172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6200000">
              <a:off x="571680" y="156456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24680" y="609912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95360" y="533520"/>
            <a:ext cx="8915040" cy="1260000"/>
            <a:chOff x="495360" y="533520"/>
            <a:chExt cx="8915040" cy="1260000"/>
          </a:xfrm>
        </p:grpSpPr>
        <p:sp>
          <p:nvSpPr>
            <p:cNvPr id="107" name=""/>
            <p:cNvSpPr/>
            <p:nvPr/>
          </p:nvSpPr>
          <p:spPr>
            <a:xfrm>
              <a:off x="609480" y="76284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9360" y="14508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360" y="110592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600" y="133452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6200000">
              <a:off x="571680" y="110736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04480" y="304920"/>
            <a:ext cx="8420040" cy="129528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01680"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Legge 112/98</a:t>
            </a:r>
            <a:br>
              <a:rPr sz="3900"/>
            </a:br>
            <a:r>
              <a:rPr b="0" lang="en-US" sz="24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Trasferimento competenze e funzioni alle Province e ai Comu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371600"/>
            <a:ext cx="8305920" cy="48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ticolo 13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dc042d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truzione, aggregazione, fusione e soppressione di scuole in attuazione degli strumenti di programmazi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dc042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 redazione dei piani di organizzazione della rete delle istituzioni scolasti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servizi di supporto organizzativo per gli alunni con handicap  o in situazioni di svantagg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piano di utilizzazione degli edifici  e di uso delle attrezzature, d’intesa con le istituzioni scolastich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) sospensione delle lezioni in casi gravi  e urgent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)  iniziative e attività di promozione relative all’ambito delle funzioni conferi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costituzione, controllo e vigilanza, ivi compreso lo scioglimento, sugli organi     collegiali scolastici a livello territori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Legge 112/98</a:t>
            </a:r>
            <a:br>
              <a:rPr sz="3900"/>
            </a:br>
            <a:r>
              <a:rPr b="0" lang="en-US" sz="32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Trasferimento competenze e funzioni ai Comun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95360" y="609120"/>
            <a:ext cx="8915040" cy="1261080"/>
            <a:chOff x="495360" y="609120"/>
            <a:chExt cx="8915040" cy="1261080"/>
          </a:xfrm>
        </p:grpSpPr>
        <p:sp>
          <p:nvSpPr>
            <p:cNvPr id="117" name=""/>
            <p:cNvSpPr/>
            <p:nvPr/>
          </p:nvSpPr>
          <p:spPr>
            <a:xfrm>
              <a:off x="609480" y="838800"/>
              <a:ext cx="685800" cy="3430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360" y="152712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360" y="118188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3600" y="141084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16200000">
              <a:off x="571680" y="1182960"/>
              <a:ext cx="122004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39  (punto 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che in collaborazione con le comunità montane e con le Province, ciascuno in relazione ai gradi di istruzione di propria competenza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tan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che d’intesa con le istit. scolastiche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ative relative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educazione degli adul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 interventi integrati di orientamento scolastico e profession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   azioni tese a realizzare le pari opportunità di istruz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  azioni di supporto tese a promuovere e sostenere la coerenza e la continuità i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ticale e in orizzontale tra i diversi gradi e ordini di scuo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  interventi perequativ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  interventi integrati di prevenzione della dispersione scolastica e di educ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a salut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dc042d"/>
                </a:solidFill>
                <a:latin typeface="Times New Roman"/>
              </a:rPr>
              <a:t>LA SCUOLA DELL’ AUTONOMIA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7562880" cy="281916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responsabile del servizio fornito all’ut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un servizio aperto capace di interagire con il contesto sociale e territor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5360" y="914400"/>
            <a:ext cx="8915040" cy="1218960"/>
            <a:chOff x="495360" y="914400"/>
            <a:chExt cx="8915040" cy="1218960"/>
          </a:xfrm>
        </p:grpSpPr>
        <p:sp>
          <p:nvSpPr>
            <p:cNvPr id="127" name=""/>
            <p:cNvSpPr/>
            <p:nvPr/>
          </p:nvSpPr>
          <p:spPr>
            <a:xfrm>
              <a:off x="609480" y="113616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360" y="180180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360" y="14680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600" y="168948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16200000">
              <a:off x="591480" y="146844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8:38:19Z</dcterms:created>
  <dc:creator> </dc:creator>
  <dc:description/>
  <dc:language>en-US</dc:language>
  <cp:lastModifiedBy>Berti</cp:lastModifiedBy>
  <dcterms:modified xsi:type="dcterms:W3CDTF">2004-01-12T21:29:43Z</dcterms:modified>
  <cp:revision>37</cp:revision>
  <dc:subject/>
  <dc:title>Presentazione di PowerPoint</dc:title>
</cp:coreProperties>
</file>